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8B7B3-04C4-4173-AB87-034A27D08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CB735-8358-4ADA-B68C-3334A3F33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ABA23-E8E0-4239-BCA9-244F27E37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029F5-A276-414F-B8D3-0BAF585E5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817F0-FBC7-4152-AB34-0BC8DEABE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06E2C-F231-4D47-8674-415F48AA5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9A5AF-186D-4571-A20C-63572D2E1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10CBC-1B94-473F-82F7-EB784EF90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7AF0F-1983-44E8-B0EC-553809B52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59DE6-122D-4FBC-B47A-EC311C1F6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4BF27-7F0C-4365-B003-CBDA4F07C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D9D41-A138-418B-9ABC-67BC969C2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76227-C1F1-4681-9237-0D5739BB92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1052640"/>
            <a:ext cx="784692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Модель навчального процесу ВН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357360"/>
            <a:ext cx="68724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Стеценко 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</a:rPr>
              <a:t>Інна Вячеславі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к.т.н., доцент кафедри комп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ютерних технолог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і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00000" y="4113360"/>
            <a:ext cx="7848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Черкаський державний технологічний університ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63640" y="4653000"/>
            <a:ext cx="7848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v66@yandex.r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Структура модел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95280" y="3284640"/>
            <a:ext cx="8137440" cy="29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 u="sng">
                <a:solidFill>
                  <a:srgbClr val="000000"/>
                </a:solidFill>
                <a:uFillTx/>
                <a:latin typeface="Times New Roman"/>
              </a:rPr>
              <a:t>Підмодел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підмодель семестр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підмодель навчального процесу дисциплін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підмодель контролю відвідуванн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підмодель контролю заборгованосте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підмодель прийняття рішення про переведення до наступного семестр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підмодель прийняття рішення про виконання навчального плану та вручення диплом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31640" y="944640"/>
            <a:ext cx="8136000" cy="20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Модель навчального процесу спеціальност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ідслідковувати виконання навчального плану спеціальності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цінювати якість навчального процесу зі спеціальності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здійснювати управління навчальним процес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395280" y="54936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Система імітаційного моделювання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TRSIM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431640" y="944640"/>
            <a:ext cx="8136000" cy="20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31640" y="1412640"/>
            <a:ext cx="8110800" cy="42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безпечує зручний і зрозумілий графічний інтерфейс введення моделі, що формалізована засобами сітки Петрі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користання інформаційних зв’язків між елементами моделі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користання формул для визначення кількості зв’язкі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імацію імітаційного моделювання (для цілей верифікації моделі та навчальних цілей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ектний алгоритм імітації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ставлення результатів моделювання в графічному вигляді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/>
          <p:nvPr/>
        </p:nvSpPr>
        <p:spPr>
          <a:xfrm>
            <a:off x="4843440" y="3492360"/>
            <a:ext cx="15840" cy="549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395280" y="260280"/>
            <a:ext cx="822960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одель навчального процес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1">
            <a:lum contrast="6000"/>
          </a:blip>
          <a:srcRect l="1003" t="10284" r="3743" b="8937"/>
          <a:stretch/>
        </p:blipFill>
        <p:spPr>
          <a:xfrm>
            <a:off x="287280" y="907920"/>
            <a:ext cx="8532720" cy="52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/>
          <p:nvPr/>
        </p:nvSpPr>
        <p:spPr>
          <a:xfrm>
            <a:off x="4843440" y="3492360"/>
            <a:ext cx="15840" cy="549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95280" y="333360"/>
            <a:ext cx="822960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Підмодель контролю відвідуванн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1"/>
          <a:srcRect l="504" t="12959" r="3591" b="12959"/>
          <a:stretch/>
        </p:blipFill>
        <p:spPr>
          <a:xfrm>
            <a:off x="684360" y="1015920"/>
            <a:ext cx="788328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4843440" y="3492360"/>
            <a:ext cx="15840" cy="549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95280" y="333360"/>
            <a:ext cx="822960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Підмодель прийняття рішення про переведення до наступного семестр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3" name="" descr=""/>
          <p:cNvPicPr/>
          <p:nvPr/>
        </p:nvPicPr>
        <p:blipFill>
          <a:blip r:embed="rId1"/>
          <a:srcRect l="1691" t="13380" r="2638" b="15955"/>
          <a:stretch/>
        </p:blipFill>
        <p:spPr>
          <a:xfrm>
            <a:off x="304920" y="1736640"/>
            <a:ext cx="855180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4843440" y="3492360"/>
            <a:ext cx="15840" cy="549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395280" y="333360"/>
            <a:ext cx="822960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Підмодель контролю кількості заборгованост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1"/>
          <a:srcRect l="2925" t="16906" r="6347" b="20608"/>
          <a:stretch/>
        </p:blipFill>
        <p:spPr>
          <a:xfrm>
            <a:off x="395280" y="1628640"/>
            <a:ext cx="8381880" cy="38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4843440" y="3492360"/>
            <a:ext cx="15840" cy="549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5280" y="333360"/>
            <a:ext cx="822960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Підмодель навчання дисциплі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9" name="" descr=""/>
          <p:cNvPicPr/>
          <p:nvPr/>
        </p:nvPicPr>
        <p:blipFill>
          <a:blip r:embed="rId1"/>
          <a:srcRect l="454" t="13142" r="1504" b="14293"/>
          <a:stretch/>
        </p:blipFill>
        <p:spPr>
          <a:xfrm>
            <a:off x="216000" y="1268280"/>
            <a:ext cx="875340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24000" y="2168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якую за увагу!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Times New Roman"/>
              </a:rPr>
              <a:t>Цілі моделюванн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826560" y="1376280"/>
            <a:ext cx="7812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Розуміння (детальне і поглиблене) процесу навчальної діяльності студента у структурі ВНЗ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Визначення впливу ІАСКО на навчальну діяльність студента ВН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Визначення характеристик навчального процесу при заданих значення параметрів та змінни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Оптимізація параметрів управління системи контролю та оцінювання навчальної діяльності студентів ВН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Визначення оптимальної стратегії прийняття рішень щодо поліпшення якості навчального процесу ВН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Змінні модел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94920" y="907920"/>
            <a:ext cx="45370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 u="sng">
                <a:solidFill>
                  <a:srgbClr val="000000"/>
                </a:solidFill>
                <a:uFillTx/>
                <a:latin typeface="Times New Roman"/>
              </a:rPr>
              <a:t>Вхідні змінні моделі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НП ВНЗ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ількість спеціальностей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спеціальності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ількість студентів, що навчаються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ількість дисциплін у кожному семестрі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тична кількість заборгованостей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меження часу для ліквідації заборгованосте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кожної дисципліни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кількість тем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кількість годин лекцій, практичних та лабораторних робіт в кожній темі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наявність КП, КР або РГР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критична кількість пропусків занять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умови, які необхідні для допуску до іспиту(заліку): захист усіх лабораторних тем, усіх тем, успішний контроль відвідування, успішний контроль попередніх заборгованост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Для деканату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умови, при яких приймається рішення про відрахування студента: вичерпана критична кількість заборгованостей, вичерпаний час на перездачу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час, необхідний для прийняття рішення про відрахуванн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час, необхідний для прийняття рішення про допуск(недопуск) студента до сесії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Для студент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ймовірність пропуску занятт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ймовірність невдалого захисту лабораторної роботи, тем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ймовірність неуспішного складання заліку, іспиту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111280" y="981000"/>
            <a:ext cx="363564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 u="sng">
                <a:solidFill>
                  <a:srgbClr val="000000"/>
                </a:solidFill>
                <a:uFillTx/>
                <a:latin typeface="Times New Roman"/>
              </a:rPr>
              <a:t>Вихідні змінні моделі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Для НП ВНЗ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кількість відрахованих з і-ого семестру студентів (загалом, по факультетам  і по спеціальностям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динаміка змінювання кількості відраховани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Для кожної дисциплін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середня кількість вивчених одним студентом тем 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показники складності дисципліни: середня кількість перездач іспиту (заліку), середня кількість перездач лабораторної роботи, теми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Для деканату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показники якості навчання: середня кількість перездач в розрахунку на одного студента (для дисципліни, для кафедри…), середня кількість заборгованостей одного студента,  ймовірність відрахуванн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кількість студентів, які не пройшли успішно контроль відвідування (по дисциплінам та по спеціальностям), у відношенні до загальної кількості студенті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кількість студентів, яка переведена на наступний семестр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Для студент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показники якості навчання: успішність навчання (за навчальним планом чи із запізненням), кількість перездач, кількість недопускі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24000" y="368280"/>
            <a:ext cx="706752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Формалізація процесів функціонування мереж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ами Петр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761120" y="1252800"/>
            <a:ext cx="6106680" cy="4534200"/>
            <a:chOff x="1761120" y="1252800"/>
            <a:chExt cx="6106680" cy="4534200"/>
          </a:xfrm>
        </p:grpSpPr>
        <p:sp>
          <p:nvSpPr>
            <p:cNvPr id="52" name=""/>
            <p:cNvSpPr/>
            <p:nvPr/>
          </p:nvSpPr>
          <p:spPr>
            <a:xfrm>
              <a:off x="1761120" y="1252800"/>
              <a:ext cx="6004440" cy="33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Times New Roman"/>
                </a:rPr>
                <a:t>Елементи мережі Петрі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317120" y="1927080"/>
              <a:ext cx="8280" cy="296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106720" y="1880640"/>
              <a:ext cx="1162080" cy="37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Times New Roman"/>
                </a:rPr>
                <a:t>Перехід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106720" y="2420280"/>
              <a:ext cx="1274040" cy="37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Times New Roman"/>
                </a:rPr>
                <a:t>Позиція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63760" y="2504520"/>
              <a:ext cx="314640" cy="275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106720" y="3003840"/>
              <a:ext cx="763560" cy="37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Times New Roman"/>
                </a:rPr>
                <a:t>Дуг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088720" y="3625560"/>
              <a:ext cx="1674360" cy="37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Times New Roman"/>
                </a:rPr>
                <a:t>Фішка (одна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" name=""/>
            <p:cNvGrpSpPr/>
            <p:nvPr/>
          </p:nvGrpSpPr>
          <p:grpSpPr>
            <a:xfrm>
              <a:off x="3668040" y="3057480"/>
              <a:ext cx="1306440" cy="310320"/>
              <a:chOff x="3668040" y="3057480"/>
              <a:chExt cx="1306440" cy="310320"/>
            </a:xfrm>
          </p:grpSpPr>
          <p:sp>
            <p:nvSpPr>
              <p:cNvPr id="60" name=""/>
              <p:cNvSpPr/>
              <p:nvPr/>
            </p:nvSpPr>
            <p:spPr>
              <a:xfrm>
                <a:off x="3668040" y="3057480"/>
                <a:ext cx="312840" cy="2750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4661640" y="3076560"/>
                <a:ext cx="312840" cy="2750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4330440" y="3057480"/>
                <a:ext cx="0" cy="310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3976920" y="3214800"/>
                <a:ext cx="353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4330440" y="3134880"/>
                <a:ext cx="353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4330440" y="3270960"/>
                <a:ext cx="353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" name=""/>
            <p:cNvGrpSpPr/>
            <p:nvPr/>
          </p:nvGrpSpPr>
          <p:grpSpPr>
            <a:xfrm>
              <a:off x="4127760" y="3693960"/>
              <a:ext cx="312840" cy="275040"/>
              <a:chOff x="4127760" y="3693960"/>
              <a:chExt cx="312840" cy="275040"/>
            </a:xfrm>
          </p:grpSpPr>
          <p:sp>
            <p:nvSpPr>
              <p:cNvPr id="67" name=""/>
              <p:cNvSpPr/>
              <p:nvPr/>
            </p:nvSpPr>
            <p:spPr>
              <a:xfrm>
                <a:off x="4127760" y="3693960"/>
                <a:ext cx="312840" cy="2750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4260600" y="3812040"/>
                <a:ext cx="45360" cy="392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9" name=""/>
            <p:cNvSpPr/>
            <p:nvPr/>
          </p:nvSpPr>
          <p:spPr>
            <a:xfrm>
              <a:off x="2098080" y="4399560"/>
              <a:ext cx="1657800" cy="36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Times New Roman"/>
                </a:rPr>
                <a:t>Багато фішок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89960" y="4452480"/>
              <a:ext cx="428760" cy="345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212800" y="1918800"/>
              <a:ext cx="1709280" cy="364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позначає подію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212800" y="2420280"/>
              <a:ext cx="1786680" cy="36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позначає умову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212800" y="2973600"/>
              <a:ext cx="2541960" cy="54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позначає зв’язк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між подіями та умовам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098080" y="4915800"/>
              <a:ext cx="1483560" cy="370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Times New Roman"/>
                </a:rPr>
                <a:t>Багато дуг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3927960" y="4862520"/>
              <a:ext cx="774360" cy="320760"/>
              <a:chOff x="3927960" y="4862520"/>
              <a:chExt cx="774360" cy="320760"/>
            </a:xfrm>
          </p:grpSpPr>
          <p:sp>
            <p:nvSpPr>
              <p:cNvPr id="76" name=""/>
              <p:cNvSpPr/>
              <p:nvPr/>
            </p:nvSpPr>
            <p:spPr>
              <a:xfrm>
                <a:off x="4170960" y="4862520"/>
                <a:ext cx="293760" cy="253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000000"/>
                    </a:solidFill>
                    <a:latin typeface="Times New Roman"/>
                  </a:rPr>
                  <a:t>16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3927960" y="5125320"/>
                <a:ext cx="774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4244760" y="5076720"/>
                <a:ext cx="80280" cy="10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" name=""/>
            <p:cNvSpPr/>
            <p:nvPr/>
          </p:nvSpPr>
          <p:spPr>
            <a:xfrm>
              <a:off x="5212800" y="3588840"/>
              <a:ext cx="2655000" cy="590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позначає виконанн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(або не виконання) умов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898280" y="5477760"/>
              <a:ext cx="5838480" cy="309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134680" y="4407120"/>
              <a:ext cx="2507040" cy="523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позначає багатократне виконання умов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143320" y="4923360"/>
              <a:ext cx="2507040" cy="523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позначає велику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кількість зв’язків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34560" y="274680"/>
            <a:ext cx="7751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слідовність дій, виконуваних для формалізації системи засобами мережі Петр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971640" y="1376280"/>
            <a:ext cx="7777080" cy="4575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</a:rPr>
              <a:t>Для того, щоб представити систему засобами мереж Петрі потрібно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виділити події, що виникають в системі, і поставити у відповідність кожній події перехід мережі Петрі;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з’ясувати умови, при яких виникає кожна з подій, і поставити у відповідність кожній умові позицію мережі Петрі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визначити кількість фішок у позиції мережі Петрі, що символізує виконання умови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з’єднати позиції та переходи відповідно до логіки виникнення подій у системі : якщо умова передує виконанню події, то з’єднати в мережі Петрі відповідну позицію з відповідним переходом; якщо умова являється наслідком виконання події, то з’єднати в мережі Петрі відповідний перехід з відповідною позицією;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з’ясувати зміни, які відбуваються в системі при здійсненні кожної події, і поставити у відповідність змінам переміщення визначеної кількості фішок із позицій в переходи та з переходів у позиції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визначити числові значення часових затримок в переходах мережі Петрі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визначити стан мережі Петрі на початку моделювання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03916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Мережі Петрі з конфліктними переходами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371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 u="sng">
                <a:solidFill>
                  <a:srgbClr val="000000"/>
                </a:solidFill>
                <a:uFillTx/>
                <a:latin typeface="Times New Roman"/>
              </a:rPr>
              <a:t>Способи розв’язування конфлікту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пріоритетний (явний та неявний спосіб завдання пріоритету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ймовірнісний (з рівною та указаною ймовірністю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600360" y="4581360"/>
            <a:ext cx="86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1451520" y="2942280"/>
            <a:ext cx="5294880" cy="2516400"/>
            <a:chOff x="1451520" y="2942280"/>
            <a:chExt cx="5294880" cy="2516400"/>
          </a:xfrm>
        </p:grpSpPr>
        <p:grpSp>
          <p:nvGrpSpPr>
            <p:cNvPr id="89" name=""/>
            <p:cNvGrpSpPr/>
            <p:nvPr/>
          </p:nvGrpSpPr>
          <p:grpSpPr>
            <a:xfrm>
              <a:off x="1451520" y="2942280"/>
              <a:ext cx="5294880" cy="2516400"/>
              <a:chOff x="1451520" y="2942280"/>
              <a:chExt cx="5294880" cy="2516400"/>
            </a:xfrm>
          </p:grpSpPr>
          <p:sp>
            <p:nvSpPr>
              <p:cNvPr id="90" name=""/>
              <p:cNvSpPr/>
              <p:nvPr/>
            </p:nvSpPr>
            <p:spPr>
              <a:xfrm>
                <a:off x="4232160" y="3753000"/>
                <a:ext cx="271080" cy="174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200" spc="-1" strike="noStrike">
                    <a:solidFill>
                      <a:srgbClr val="000000"/>
                    </a:solidFill>
                    <a:latin typeface="Times New Roman"/>
                  </a:rPr>
                  <a:t>0,9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4204080" y="4193280"/>
                <a:ext cx="272880" cy="174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200" spc="-1" strike="noStrike">
                    <a:solidFill>
                      <a:srgbClr val="000000"/>
                    </a:solidFill>
                    <a:latin typeface="Times New Roman"/>
                  </a:rPr>
                  <a:t>0,1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932560" y="2957040"/>
                <a:ext cx="1210320" cy="174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5504040" y="3543840"/>
                <a:ext cx="839160" cy="523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200" spc="-1" strike="noStrike">
                    <a:solidFill>
                      <a:srgbClr val="000000"/>
                    </a:solidFill>
                    <a:latin typeface="Times New Roman"/>
                  </a:rPr>
                  <a:t>кількість переведених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2975040" y="3941640"/>
                <a:ext cx="250920" cy="2530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2623680" y="4067640"/>
                <a:ext cx="36468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2641680" y="3879720"/>
                <a:ext cx="0" cy="381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7" name=""/>
              <p:cNvGrpSpPr/>
              <p:nvPr/>
            </p:nvGrpSpPr>
            <p:grpSpPr>
              <a:xfrm>
                <a:off x="2072520" y="3906720"/>
                <a:ext cx="251640" cy="252360"/>
                <a:chOff x="2072520" y="3906720"/>
                <a:chExt cx="251640" cy="252360"/>
              </a:xfrm>
            </p:grpSpPr>
            <p:sp>
              <p:nvSpPr>
                <p:cNvPr id="98" name=""/>
                <p:cNvSpPr/>
                <p:nvPr/>
              </p:nvSpPr>
              <p:spPr>
                <a:xfrm>
                  <a:off x="2072520" y="3906720"/>
                  <a:ext cx="251640" cy="252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" name=""/>
                <p:cNvSpPr/>
                <p:nvPr/>
              </p:nvSpPr>
              <p:spPr>
                <a:xfrm>
                  <a:off x="2196720" y="3997440"/>
                  <a:ext cx="36000" cy="36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0" name=""/>
              <p:cNvSpPr/>
              <p:nvPr/>
            </p:nvSpPr>
            <p:spPr>
              <a:xfrm>
                <a:off x="2321640" y="4095720"/>
                <a:ext cx="337680" cy="2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2339640" y="4004640"/>
                <a:ext cx="301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807200" y="3656160"/>
                <a:ext cx="1131120" cy="1818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2870640" y="4236120"/>
                <a:ext cx="586440" cy="180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1451520" y="5017320"/>
                <a:ext cx="5294880" cy="441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4183560" y="3656160"/>
                <a:ext cx="438840" cy="877680"/>
                <a:chOff x="4183560" y="3656160"/>
                <a:chExt cx="438840" cy="877680"/>
              </a:xfrm>
            </p:grpSpPr>
            <p:sp>
              <p:nvSpPr>
                <p:cNvPr id="106" name=""/>
                <p:cNvSpPr/>
                <p:nvPr/>
              </p:nvSpPr>
              <p:spPr>
                <a:xfrm flipV="1">
                  <a:off x="4190760" y="3849120"/>
                  <a:ext cx="397440" cy="205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4183560" y="4087440"/>
                  <a:ext cx="411840" cy="216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4622400" y="3656160"/>
                  <a:ext cx="0" cy="381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4609080" y="4152960"/>
                  <a:ext cx="0" cy="3808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0" name=""/>
              <p:cNvGrpSpPr/>
              <p:nvPr/>
            </p:nvGrpSpPr>
            <p:grpSpPr>
              <a:xfrm>
                <a:off x="3414960" y="3173760"/>
                <a:ext cx="252360" cy="252360"/>
                <a:chOff x="3414960" y="3173760"/>
                <a:chExt cx="252360" cy="252360"/>
              </a:xfrm>
            </p:grpSpPr>
            <p:sp>
              <p:nvSpPr>
                <p:cNvPr id="111" name=""/>
                <p:cNvSpPr/>
                <p:nvPr/>
              </p:nvSpPr>
              <p:spPr>
                <a:xfrm>
                  <a:off x="3414960" y="3173760"/>
                  <a:ext cx="252360" cy="252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3539520" y="3264480"/>
                  <a:ext cx="36000" cy="36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3" name=""/>
              <p:cNvGrpSpPr/>
              <p:nvPr/>
            </p:nvGrpSpPr>
            <p:grpSpPr>
              <a:xfrm>
                <a:off x="2588400" y="2942280"/>
                <a:ext cx="1892160" cy="1308960"/>
                <a:chOff x="2588400" y="2942280"/>
                <a:chExt cx="1892160" cy="1308960"/>
              </a:xfrm>
            </p:grpSpPr>
            <p:sp>
              <p:nvSpPr>
                <p:cNvPr id="114" name=""/>
                <p:cNvSpPr/>
                <p:nvPr/>
              </p:nvSpPr>
              <p:spPr>
                <a:xfrm rot="2733600">
                  <a:off x="2776680" y="3132720"/>
                  <a:ext cx="917640" cy="9133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3652" y="383"/>
                      </a:moveTo>
                      <a:arcTo wR="10800" hR="10800" stAng="-4481212" swAng="448121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3652" y="383"/>
                      </a:moveTo>
                      <a:arcTo wR="10800" hR="10800" stAng="-4481212" swAng="4481212"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  <a:head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 flipH="1" rot="18866400">
                  <a:off x="3374280" y="3147120"/>
                  <a:ext cx="917640" cy="9133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3652" y="383"/>
                      </a:moveTo>
                      <a:arcTo wR="10800" hR="10800" stAng="-4481212" swAng="448121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3652" y="383"/>
                      </a:moveTo>
                      <a:arcTo wR="10800" hR="10800" stAng="-4481212" swAng="4481212"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  <a:tail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6" name=""/>
              <p:cNvSpPr/>
              <p:nvPr/>
            </p:nvSpPr>
            <p:spPr>
              <a:xfrm>
                <a:off x="5203440" y="3739320"/>
                <a:ext cx="250920" cy="2530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V="1">
                <a:off x="3225960" y="4067640"/>
                <a:ext cx="31536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3945600" y="3962880"/>
                <a:ext cx="251640" cy="2530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3547440" y="4067640"/>
                <a:ext cx="39780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148640" y="3495240"/>
                <a:ext cx="950040" cy="1688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uk-UA" sz="1200" spc="-1" strike="noStrike">
                    <a:solidFill>
                      <a:srgbClr val="000000"/>
                    </a:solidFill>
                    <a:latin typeface="Times New Roman"/>
                  </a:rPr>
                  <a:t>Переведений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043520" y="4053960"/>
                <a:ext cx="42120" cy="482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flipH="1">
                <a:off x="3540600" y="3878640"/>
                <a:ext cx="720" cy="390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4644720" y="3836880"/>
                <a:ext cx="558720" cy="7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4148640" y="4536000"/>
                <a:ext cx="875160" cy="172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200" spc="-1" strike="noStrike">
                    <a:solidFill>
                      <a:srgbClr val="000000"/>
                    </a:solidFill>
                    <a:latin typeface="Times New Roman"/>
                  </a:rPr>
                  <a:t>Не переведений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5441040" y="4201200"/>
                <a:ext cx="839160" cy="523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200" spc="-1" strike="noStrike">
                    <a:solidFill>
                      <a:srgbClr val="000000"/>
                    </a:solidFill>
                    <a:latin typeface="Times New Roman"/>
                  </a:rPr>
                  <a:t>кількість непеведених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176440" y="4208760"/>
                <a:ext cx="250920" cy="2534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4617720" y="4306680"/>
                <a:ext cx="564480" cy="5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8" name=""/>
            <p:cNvSpPr/>
            <p:nvPr/>
          </p:nvSpPr>
          <p:spPr>
            <a:xfrm>
              <a:off x="2590560" y="4363920"/>
              <a:ext cx="1620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400" spc="-1" strike="noStrike">
                  <a:solidFill>
                    <a:srgbClr val="000000"/>
                  </a:solidFill>
                  <a:latin typeface="Times New Roman"/>
                </a:rPr>
                <a:t>Прийняття рішенн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Мережі Петрі з інформаційними зв’язками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1763640" y="1844640"/>
            <a:ext cx="5437440" cy="3168720"/>
            <a:chOff x="1763640" y="1844640"/>
            <a:chExt cx="5437440" cy="3168720"/>
          </a:xfrm>
        </p:grpSpPr>
        <p:sp>
          <p:nvSpPr>
            <p:cNvPr id="131" name=""/>
            <p:cNvSpPr/>
            <p:nvPr/>
          </p:nvSpPr>
          <p:spPr>
            <a:xfrm>
              <a:off x="2808000" y="2756880"/>
              <a:ext cx="369720" cy="358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  <a:ea typeface="Arial Unicode MS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048200" y="2177640"/>
              <a:ext cx="1440" cy="554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 flipV="1">
              <a:off x="3134520" y="2443680"/>
              <a:ext cx="890640" cy="376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 flipV="1">
              <a:off x="3202920" y="3708000"/>
              <a:ext cx="731160" cy="4654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842640" y="1844640"/>
              <a:ext cx="1187640" cy="243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  <a:ea typeface="Arial Unicode MS"/>
                </a:rPr>
                <a:t>Успішно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007960" y="3308760"/>
              <a:ext cx="370440" cy="358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053320" y="2199600"/>
              <a:ext cx="371160" cy="358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763640" y="4728600"/>
              <a:ext cx="2643840" cy="284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200" spc="-1" strike="noStrike">
                  <a:solidFill>
                    <a:srgbClr val="000000"/>
                  </a:solidFill>
                  <a:latin typeface="Times New Roman"/>
                  <a:ea typeface="Arial Unicode MS"/>
                </a:rPr>
                <a:t>Критична кількість пропускі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906920" y="3181320"/>
              <a:ext cx="1341360" cy="558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  <a:ea typeface="Arial Unicode MS"/>
                </a:rPr>
                <a:t>Контроль відвідуванн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751200" y="3885480"/>
              <a:ext cx="1175040" cy="284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  <a:ea typeface="Arial Unicode MS"/>
                </a:rPr>
                <a:t>Не успішно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705480" y="2598840"/>
              <a:ext cx="1005120" cy="266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  <a:ea typeface="Arial Unicode MS"/>
                </a:rPr>
                <a:t>пріоритет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677320" y="4085280"/>
              <a:ext cx="587160" cy="570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  <a:ea typeface="Arial Unicode MS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Arial Unicode MS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979800" y="3242160"/>
              <a:ext cx="1440" cy="554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065760" y="3108960"/>
              <a:ext cx="890640" cy="376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flipV="1">
              <a:off x="4071240" y="2376720"/>
              <a:ext cx="959040" cy="21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 flipV="1">
              <a:off x="4002480" y="3530160"/>
              <a:ext cx="959040" cy="21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510520" y="2177640"/>
              <a:ext cx="1667520" cy="509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  <a:ea typeface="Arial Unicode MS"/>
                </a:rPr>
                <a:t>Кількіть пропусків мал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442120" y="3308760"/>
              <a:ext cx="1758960" cy="488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  <a:ea typeface="Arial Unicode MS"/>
                </a:rPr>
                <a:t>Кількіть пропусків велик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Приклади моделювання систем управління засобами мереж Петрі з інформаційними зв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язками</a:t>
            </a:r>
            <a:br>
              <a:rPr sz="2000"/>
            </a:br>
            <a:r>
              <a:rPr b="0" lang="uk-UA" sz="1600" spc="-1" strike="noStrike">
                <a:solidFill>
                  <a:srgbClr val="000000"/>
                </a:solidFill>
                <a:latin typeface="Times New Roman"/>
              </a:rPr>
              <a:t>Система управління дорожнім рухом на перехресті, керованому світлофора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669240" y="1286280"/>
            <a:ext cx="8038440" cy="5106240"/>
            <a:chOff x="669240" y="1286280"/>
            <a:chExt cx="8038440" cy="5106240"/>
          </a:xfrm>
        </p:grpSpPr>
        <p:sp>
          <p:nvSpPr>
            <p:cNvPr id="151" name=""/>
            <p:cNvSpPr/>
            <p:nvPr/>
          </p:nvSpPr>
          <p:spPr>
            <a:xfrm>
              <a:off x="2802960" y="1729440"/>
              <a:ext cx="3752640" cy="30042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2" name=""/>
            <p:cNvGrpSpPr/>
            <p:nvPr/>
          </p:nvGrpSpPr>
          <p:grpSpPr>
            <a:xfrm>
              <a:off x="5950440" y="1286280"/>
              <a:ext cx="2704680" cy="1403280"/>
              <a:chOff x="5950440" y="1286280"/>
              <a:chExt cx="2704680" cy="1403280"/>
            </a:xfrm>
          </p:grpSpPr>
          <p:sp>
            <p:nvSpPr>
              <p:cNvPr id="153" name=""/>
              <p:cNvSpPr/>
              <p:nvPr/>
            </p:nvSpPr>
            <p:spPr>
              <a:xfrm>
                <a:off x="5950440" y="1286280"/>
                <a:ext cx="2704680" cy="1403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4" name=""/>
              <p:cNvGrpSpPr/>
              <p:nvPr/>
            </p:nvGrpSpPr>
            <p:grpSpPr>
              <a:xfrm>
                <a:off x="6199560" y="1623240"/>
                <a:ext cx="1936800" cy="948600"/>
                <a:chOff x="6199560" y="1623240"/>
                <a:chExt cx="1936800" cy="948600"/>
              </a:xfrm>
            </p:grpSpPr>
            <p:sp>
              <p:nvSpPr>
                <p:cNvPr id="155" name=""/>
                <p:cNvSpPr/>
                <p:nvPr/>
              </p:nvSpPr>
              <p:spPr>
                <a:xfrm>
                  <a:off x="6466320" y="2085840"/>
                  <a:ext cx="343080" cy="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7444800" y="2316600"/>
                  <a:ext cx="242280" cy="2552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080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2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6270840" y="1730160"/>
                  <a:ext cx="925560" cy="1771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080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200" spc="-1" strike="noStrike">
                      <a:solidFill>
                        <a:srgbClr val="000000"/>
                      </a:solidFill>
                      <a:latin typeface="Times New Roman"/>
                    </a:rPr>
                    <a:t>надходження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6679800" y="2298960"/>
                  <a:ext cx="244800" cy="2538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080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200" spc="-1" strike="noStrike">
                      <a:solidFill>
                        <a:srgbClr val="000000"/>
                      </a:solidFill>
                      <a:latin typeface="Times New Roman"/>
                    </a:rPr>
                    <a:t>t</a:t>
                  </a:r>
                  <a:r>
                    <a:rPr b="0" lang="ru-RU" sz="12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4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7053120" y="2014560"/>
                  <a:ext cx="248760" cy="2358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6804720" y="1965960"/>
                  <a:ext cx="0" cy="3038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804720" y="2132640"/>
                  <a:ext cx="266040" cy="5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-41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7319880" y="2138400"/>
                  <a:ext cx="248760" cy="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7889760" y="1996560"/>
                  <a:ext cx="246600" cy="2358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7569000" y="1978920"/>
                  <a:ext cx="720" cy="3045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7605000" y="2138400"/>
                  <a:ext cx="284760" cy="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66" name=""/>
                <p:cNvGrpSpPr/>
                <p:nvPr/>
              </p:nvGrpSpPr>
              <p:grpSpPr>
                <a:xfrm>
                  <a:off x="6199560" y="1996560"/>
                  <a:ext cx="248040" cy="235800"/>
                  <a:chOff x="6199560" y="1996560"/>
                  <a:chExt cx="248040" cy="235800"/>
                </a:xfrm>
              </p:grpSpPr>
              <p:sp>
                <p:nvSpPr>
                  <p:cNvPr id="167" name=""/>
                  <p:cNvSpPr/>
                  <p:nvPr/>
                </p:nvSpPr>
                <p:spPr>
                  <a:xfrm>
                    <a:off x="6199560" y="1996560"/>
                    <a:ext cx="248040" cy="2358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" name=""/>
                  <p:cNvSpPr/>
                  <p:nvPr/>
                </p:nvSpPr>
                <p:spPr>
                  <a:xfrm>
                    <a:off x="6288480" y="2094120"/>
                    <a:ext cx="43200" cy="428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600" bIns="-16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9" name=""/>
                <p:cNvSpPr/>
                <p:nvPr/>
              </p:nvSpPr>
              <p:spPr>
                <a:xfrm>
                  <a:off x="7231680" y="1623240"/>
                  <a:ext cx="746280" cy="3121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200" spc="-1" strike="noStrike">
                      <a:solidFill>
                        <a:srgbClr val="000000"/>
                      </a:solidFill>
                      <a:latin typeface="Times New Roman"/>
                    </a:rPr>
                    <a:t>переїзд перехрестя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 flipH="1">
                  <a:off x="6430680" y="2191680"/>
                  <a:ext cx="344160" cy="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"/>
              <p:cNvSpPr/>
              <p:nvPr/>
            </p:nvSpPr>
            <p:spPr>
              <a:xfrm>
                <a:off x="5968080" y="1374480"/>
                <a:ext cx="2633760" cy="1951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spcAft>
                    <a:spcPts val="6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200" spc="-1" strike="noStrike" u="sng">
                    <a:solidFill>
                      <a:srgbClr val="000000"/>
                    </a:solidFill>
                    <a:uFillTx/>
                    <a:latin typeface="Times New Roman"/>
                  </a:rPr>
                  <a:t>Підсистема руху автомобілів у 4-ому напрямку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2" name=""/>
            <p:cNvGrpSpPr/>
            <p:nvPr/>
          </p:nvGrpSpPr>
          <p:grpSpPr>
            <a:xfrm>
              <a:off x="6004080" y="4023360"/>
              <a:ext cx="2703600" cy="1400760"/>
              <a:chOff x="6004080" y="4023360"/>
              <a:chExt cx="2703600" cy="1400760"/>
            </a:xfrm>
          </p:grpSpPr>
          <p:sp>
            <p:nvSpPr>
              <p:cNvPr id="173" name=""/>
              <p:cNvSpPr/>
              <p:nvPr/>
            </p:nvSpPr>
            <p:spPr>
              <a:xfrm>
                <a:off x="6004080" y="4023360"/>
                <a:ext cx="2703600" cy="14007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4" name=""/>
              <p:cNvGrpSpPr/>
              <p:nvPr/>
            </p:nvGrpSpPr>
            <p:grpSpPr>
              <a:xfrm>
                <a:off x="6252840" y="4359600"/>
                <a:ext cx="1935720" cy="947160"/>
                <a:chOff x="6252840" y="4359600"/>
                <a:chExt cx="1935720" cy="947160"/>
              </a:xfrm>
            </p:grpSpPr>
            <p:sp>
              <p:nvSpPr>
                <p:cNvPr id="175" name=""/>
                <p:cNvSpPr/>
                <p:nvPr/>
              </p:nvSpPr>
              <p:spPr>
                <a:xfrm>
                  <a:off x="6519600" y="4821120"/>
                  <a:ext cx="343080" cy="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7497720" y="5051880"/>
                  <a:ext cx="241920" cy="2548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080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2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6324120" y="4466160"/>
                  <a:ext cx="925200" cy="1767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080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200" spc="-1" strike="noStrike">
                      <a:solidFill>
                        <a:srgbClr val="000000"/>
                      </a:solidFill>
                      <a:latin typeface="Times New Roman"/>
                    </a:rPr>
                    <a:t>надходження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6733080" y="5033880"/>
                  <a:ext cx="244440" cy="2534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080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200" spc="-1" strike="noStrike">
                      <a:solidFill>
                        <a:srgbClr val="000000"/>
                      </a:solidFill>
                      <a:latin typeface="Times New Roman"/>
                    </a:rPr>
                    <a:t>t</a:t>
                  </a:r>
                  <a:r>
                    <a:rPr b="0" lang="ru-RU" sz="12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7106040" y="4750200"/>
                  <a:ext cx="248760" cy="2354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6858000" y="4701600"/>
                  <a:ext cx="0" cy="3031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6858000" y="4867920"/>
                  <a:ext cx="265680" cy="5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-41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7372800" y="4873680"/>
                  <a:ext cx="248760" cy="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7942320" y="4732200"/>
                  <a:ext cx="246240" cy="2354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7621920" y="4714560"/>
                  <a:ext cx="720" cy="3038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7657560" y="4873680"/>
                  <a:ext cx="284400" cy="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86" name=""/>
                <p:cNvGrpSpPr/>
                <p:nvPr/>
              </p:nvGrpSpPr>
              <p:grpSpPr>
                <a:xfrm>
                  <a:off x="6252840" y="4732200"/>
                  <a:ext cx="248040" cy="235440"/>
                  <a:chOff x="6252840" y="4732200"/>
                  <a:chExt cx="248040" cy="235440"/>
                </a:xfrm>
              </p:grpSpPr>
              <p:sp>
                <p:nvSpPr>
                  <p:cNvPr id="187" name=""/>
                  <p:cNvSpPr/>
                  <p:nvPr/>
                </p:nvSpPr>
                <p:spPr>
                  <a:xfrm>
                    <a:off x="6252840" y="4732200"/>
                    <a:ext cx="248040" cy="235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" name=""/>
                  <p:cNvSpPr/>
                  <p:nvPr/>
                </p:nvSpPr>
                <p:spPr>
                  <a:xfrm>
                    <a:off x="6341760" y="4829760"/>
                    <a:ext cx="43200" cy="428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600" bIns="-16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89" name=""/>
                <p:cNvSpPr/>
                <p:nvPr/>
              </p:nvSpPr>
              <p:spPr>
                <a:xfrm>
                  <a:off x="7284600" y="4359600"/>
                  <a:ext cx="745920" cy="3117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200" spc="-1" strike="noStrike">
                      <a:solidFill>
                        <a:srgbClr val="000000"/>
                      </a:solidFill>
                      <a:latin typeface="Times New Roman"/>
                    </a:rPr>
                    <a:t>переїзд перехрестя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 flipH="1">
                  <a:off x="6483960" y="4926960"/>
                  <a:ext cx="344160" cy="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1" name=""/>
              <p:cNvSpPr/>
              <p:nvPr/>
            </p:nvSpPr>
            <p:spPr>
              <a:xfrm>
                <a:off x="6021720" y="4111560"/>
                <a:ext cx="2632680" cy="1947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spcAft>
                    <a:spcPts val="6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200" spc="-1" strike="noStrike" u="sng">
                    <a:solidFill>
                      <a:srgbClr val="000000"/>
                    </a:solidFill>
                    <a:uFillTx/>
                    <a:latin typeface="Times New Roman"/>
                  </a:rPr>
                  <a:t>Підсистема руху автомобілів у 3-ому напрямку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2" name=""/>
            <p:cNvSpPr/>
            <p:nvPr/>
          </p:nvSpPr>
          <p:spPr>
            <a:xfrm>
              <a:off x="669240" y="1303200"/>
              <a:ext cx="2703600" cy="1404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345320" y="2333880"/>
              <a:ext cx="242280" cy="255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896120" y="1729440"/>
              <a:ext cx="925560" cy="177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надходженн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110320" y="2315880"/>
              <a:ext cx="243720" cy="253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ru-RU" sz="1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006920" y="1640160"/>
              <a:ext cx="746280" cy="312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переїзд перехрест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7" name=""/>
            <p:cNvGrpSpPr/>
            <p:nvPr/>
          </p:nvGrpSpPr>
          <p:grpSpPr>
            <a:xfrm>
              <a:off x="918360" y="1983960"/>
              <a:ext cx="1935360" cy="317160"/>
              <a:chOff x="918360" y="1983960"/>
              <a:chExt cx="1935360" cy="317160"/>
            </a:xfrm>
          </p:grpSpPr>
          <p:sp>
            <p:nvSpPr>
              <p:cNvPr id="198" name=""/>
              <p:cNvSpPr/>
              <p:nvPr/>
            </p:nvSpPr>
            <p:spPr>
              <a:xfrm flipH="1">
                <a:off x="2243880" y="2102400"/>
                <a:ext cx="34308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 flipH="1">
                <a:off x="1751760" y="2032200"/>
                <a:ext cx="248760" cy="2358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2248920" y="1983960"/>
                <a:ext cx="0" cy="303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 flipH="1">
                <a:off x="1983240" y="2149920"/>
                <a:ext cx="265680" cy="4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 flipH="1">
                <a:off x="1485360" y="2154960"/>
                <a:ext cx="248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 flipH="1">
                <a:off x="918360" y="2014200"/>
                <a:ext cx="246240" cy="2358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 flipH="1">
                <a:off x="1484280" y="1996560"/>
                <a:ext cx="720" cy="304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 flipH="1">
                <a:off x="1164600" y="2154960"/>
                <a:ext cx="284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06" name=""/>
              <p:cNvGrpSpPr/>
              <p:nvPr/>
            </p:nvGrpSpPr>
            <p:grpSpPr>
              <a:xfrm>
                <a:off x="2605680" y="2014200"/>
                <a:ext cx="248040" cy="235800"/>
                <a:chOff x="2605680" y="2014200"/>
                <a:chExt cx="248040" cy="235800"/>
              </a:xfrm>
            </p:grpSpPr>
            <p:sp>
              <p:nvSpPr>
                <p:cNvPr id="207" name=""/>
                <p:cNvSpPr/>
                <p:nvPr/>
              </p:nvSpPr>
              <p:spPr>
                <a:xfrm flipH="1">
                  <a:off x="2605320" y="2014200"/>
                  <a:ext cx="248040" cy="2358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>
                  <a:off x="2721600" y="2111760"/>
                  <a:ext cx="43200" cy="428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9" name=""/>
              <p:cNvSpPr/>
              <p:nvPr/>
            </p:nvSpPr>
            <p:spPr>
              <a:xfrm>
                <a:off x="2279520" y="2209320"/>
                <a:ext cx="34380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0" name=""/>
            <p:cNvSpPr/>
            <p:nvPr/>
          </p:nvSpPr>
          <p:spPr>
            <a:xfrm>
              <a:off x="687240" y="1391400"/>
              <a:ext cx="2633040" cy="195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Підсистема руху автомобілів у 1-ому напрямку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478680" y="1800720"/>
              <a:ext cx="2311200" cy="232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Підсистема управлінн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 flipH="1" rot="2332800">
              <a:off x="6280200" y="1748520"/>
              <a:ext cx="721800" cy="3393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825" y="1240"/>
                  </a:moveTo>
                  <a:arcTo wR="10800" hR="10800" stAng="-3736421" swAng="3831805"/>
                  <a:lnTo>
                    <a:pt x="10800" y="10800"/>
                  </a:lnTo>
                  <a:close/>
                </a:path>
                <a:path fill="none" w="21600" h="21600">
                  <a:moveTo>
                    <a:pt x="15825" y="1240"/>
                  </a:moveTo>
                  <a:arcTo wR="10800" hR="10800" stAng="-3736421" swAng="3831805"/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3" name=""/>
            <p:cNvGrpSpPr/>
            <p:nvPr/>
          </p:nvGrpSpPr>
          <p:grpSpPr>
            <a:xfrm>
              <a:off x="1967400" y="2121480"/>
              <a:ext cx="5316120" cy="2504160"/>
              <a:chOff x="1967400" y="2121480"/>
              <a:chExt cx="5316120" cy="2504160"/>
            </a:xfrm>
          </p:grpSpPr>
          <p:sp>
            <p:nvSpPr>
              <p:cNvPr id="214" name=""/>
              <p:cNvSpPr/>
              <p:nvPr/>
            </p:nvSpPr>
            <p:spPr>
              <a:xfrm>
                <a:off x="2891880" y="3258360"/>
                <a:ext cx="248760" cy="2372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5" name=""/>
              <p:cNvGrpSpPr/>
              <p:nvPr/>
            </p:nvGrpSpPr>
            <p:grpSpPr>
              <a:xfrm>
                <a:off x="1967400" y="2121480"/>
                <a:ext cx="5316120" cy="2504160"/>
                <a:chOff x="1967400" y="2121480"/>
                <a:chExt cx="5316120" cy="2504160"/>
              </a:xfrm>
            </p:grpSpPr>
            <p:sp>
              <p:nvSpPr>
                <p:cNvPr id="216" name=""/>
                <p:cNvSpPr/>
                <p:nvPr/>
              </p:nvSpPr>
              <p:spPr>
                <a:xfrm flipH="1" rot="5328600">
                  <a:off x="3906720" y="1648800"/>
                  <a:ext cx="1607400" cy="34239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5825" y="1240"/>
                      </a:moveTo>
                      <a:arcTo wR="10800" hR="10800" stAng="-3736421" swAng="3831805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5825" y="1240"/>
                      </a:moveTo>
                      <a:arcTo wR="10800" hR="10800" stAng="-3736421" swAng="3831805"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  <a:head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17" name=""/>
                <p:cNvGrpSpPr/>
                <p:nvPr/>
              </p:nvGrpSpPr>
              <p:grpSpPr>
                <a:xfrm>
                  <a:off x="1967400" y="2121480"/>
                  <a:ext cx="5316120" cy="2504160"/>
                  <a:chOff x="1967400" y="2121480"/>
                  <a:chExt cx="5316120" cy="2504160"/>
                </a:xfrm>
              </p:grpSpPr>
              <p:sp>
                <p:nvSpPr>
                  <p:cNvPr id="218" name=""/>
                  <p:cNvSpPr/>
                  <p:nvPr/>
                </p:nvSpPr>
                <p:spPr>
                  <a:xfrm>
                    <a:off x="6430320" y="3115440"/>
                    <a:ext cx="853200" cy="4971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spcAft>
                        <a:spcPts val="601"/>
                      </a:spcAft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ru-RU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є зелене світло в 3 та 4 напрямках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9" name=""/>
                  <p:cNvSpPr/>
                  <p:nvPr/>
                </p:nvSpPr>
                <p:spPr>
                  <a:xfrm>
                    <a:off x="1967400" y="3151080"/>
                    <a:ext cx="888840" cy="4964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spcAft>
                        <a:spcPts val="601"/>
                      </a:spcAft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ru-RU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є зелене світло в 1 та 2 напрямках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0" name=""/>
                  <p:cNvSpPr/>
                  <p:nvPr/>
                </p:nvSpPr>
                <p:spPr>
                  <a:xfrm>
                    <a:off x="4207680" y="2121480"/>
                    <a:ext cx="1031760" cy="3546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spcAft>
                        <a:spcPts val="601"/>
                      </a:spcAft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ru-RU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жовте світло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spcAft>
                        <a:spcPts val="601"/>
                      </a:spcAft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ru-RU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в усіх напрямках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"/>
                  <p:cNvSpPr/>
                  <p:nvPr/>
                </p:nvSpPr>
                <p:spPr>
                  <a:xfrm>
                    <a:off x="6127920" y="3258360"/>
                    <a:ext cx="248760" cy="2372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3870000" y="2494080"/>
                    <a:ext cx="1567080" cy="1744920"/>
                    <a:chOff x="3870000" y="2494080"/>
                    <a:chExt cx="1567080" cy="17449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>
                      <a:off x="4652280" y="2494080"/>
                      <a:ext cx="720" cy="30456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>
                      <a:off x="5434920" y="3205440"/>
                      <a:ext cx="2160" cy="30564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225" name=""/>
                    <p:cNvGrpSpPr/>
                    <p:nvPr/>
                  </p:nvGrpSpPr>
                  <p:grpSpPr>
                    <a:xfrm>
                      <a:off x="4732920" y="2670120"/>
                      <a:ext cx="671760" cy="695520"/>
                      <a:chOff x="4732920" y="2670120"/>
                      <a:chExt cx="671760" cy="695520"/>
                    </a:xfrm>
                  </p:grpSpPr>
                  <p:sp>
                    <p:nvSpPr>
                      <p:cNvPr id="226" name=""/>
                      <p:cNvSpPr/>
                      <p:nvPr/>
                    </p:nvSpPr>
                    <p:spPr>
                      <a:xfrm rot="2755200">
                        <a:off x="4947120" y="2891160"/>
                        <a:ext cx="248040" cy="23868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27" name=""/>
                      <p:cNvSpPr/>
                      <p:nvPr/>
                    </p:nvSpPr>
                    <p:spPr>
                      <a:xfrm>
                        <a:off x="4732920" y="2670120"/>
                        <a:ext cx="238680" cy="24768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  <a:tailEnd len="med" type="stealth" w="med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28" name=""/>
                      <p:cNvSpPr/>
                      <p:nvPr/>
                    </p:nvSpPr>
                    <p:spPr>
                      <a:xfrm>
                        <a:off x="5166360" y="3117600"/>
                        <a:ext cx="238320" cy="24804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  <a:tailEnd len="med" type="stealth" w="med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229" name=""/>
                    <p:cNvGrpSpPr/>
                    <p:nvPr/>
                  </p:nvGrpSpPr>
                  <p:grpSpPr>
                    <a:xfrm>
                      <a:off x="4733280" y="3405960"/>
                      <a:ext cx="689040" cy="680040"/>
                      <a:chOff x="4733280" y="3405960"/>
                      <a:chExt cx="689040" cy="680040"/>
                    </a:xfrm>
                  </p:grpSpPr>
                  <p:sp>
                    <p:nvSpPr>
                      <p:cNvPr id="230" name=""/>
                      <p:cNvSpPr/>
                      <p:nvPr/>
                    </p:nvSpPr>
                    <p:spPr>
                      <a:xfrm rot="8118600">
                        <a:off x="4960440" y="3629520"/>
                        <a:ext cx="248400" cy="23760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31" name=""/>
                      <p:cNvSpPr/>
                      <p:nvPr/>
                    </p:nvSpPr>
                    <p:spPr>
                      <a:xfrm flipH="1">
                        <a:off x="5176800" y="3405960"/>
                        <a:ext cx="245520" cy="24192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  <a:tailEnd len="med" type="stealth" w="med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32" name=""/>
                      <p:cNvSpPr/>
                      <p:nvPr/>
                    </p:nvSpPr>
                    <p:spPr>
                      <a:xfrm flipH="1">
                        <a:off x="4733280" y="3844440"/>
                        <a:ext cx="245880" cy="24156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  <a:tailEnd len="med" type="stealth" w="med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233" name=""/>
                    <p:cNvGrpSpPr/>
                    <p:nvPr/>
                  </p:nvGrpSpPr>
                  <p:grpSpPr>
                    <a:xfrm>
                      <a:off x="3887280" y="3408840"/>
                      <a:ext cx="693360" cy="674280"/>
                      <a:chOff x="3887280" y="3408840"/>
                      <a:chExt cx="693360" cy="674280"/>
                    </a:xfrm>
                  </p:grpSpPr>
                  <p:sp>
                    <p:nvSpPr>
                      <p:cNvPr id="234" name=""/>
                      <p:cNvSpPr/>
                      <p:nvPr/>
                    </p:nvSpPr>
                    <p:spPr>
                      <a:xfrm rot="13447200">
                        <a:off x="4107600" y="3634200"/>
                        <a:ext cx="248040" cy="23760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35" name=""/>
                      <p:cNvSpPr/>
                      <p:nvPr/>
                    </p:nvSpPr>
                    <p:spPr>
                      <a:xfrm flipH="1" flipV="1">
                        <a:off x="4334040" y="3843000"/>
                        <a:ext cx="246600" cy="24012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  <a:tailEnd len="med" type="stealth" w="med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36" name=""/>
                      <p:cNvSpPr/>
                      <p:nvPr/>
                    </p:nvSpPr>
                    <p:spPr>
                      <a:xfrm flipH="1" flipV="1">
                        <a:off x="3887280" y="3408840"/>
                        <a:ext cx="245880" cy="24048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  <a:tailEnd len="med" type="stealth" w="med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237" name=""/>
                    <p:cNvGrpSpPr/>
                    <p:nvPr/>
                  </p:nvGrpSpPr>
                  <p:grpSpPr>
                    <a:xfrm>
                      <a:off x="3903120" y="2655000"/>
                      <a:ext cx="696960" cy="672120"/>
                      <a:chOff x="3903120" y="2655000"/>
                      <a:chExt cx="696960" cy="672120"/>
                    </a:xfrm>
                  </p:grpSpPr>
                  <p:sp>
                    <p:nvSpPr>
                      <p:cNvPr id="238" name=""/>
                      <p:cNvSpPr/>
                      <p:nvPr/>
                    </p:nvSpPr>
                    <p:spPr>
                      <a:xfrm rot="18957000">
                        <a:off x="4120200" y="2869560"/>
                        <a:ext cx="248400" cy="23832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39" name=""/>
                      <p:cNvSpPr/>
                      <p:nvPr/>
                    </p:nvSpPr>
                    <p:spPr>
                      <a:xfrm flipV="1">
                        <a:off x="3903120" y="3088080"/>
                        <a:ext cx="248040" cy="23904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  <a:tailEnd len="med" type="stealth" w="med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40" name=""/>
                      <p:cNvSpPr/>
                      <p:nvPr/>
                    </p:nvSpPr>
                    <p:spPr>
                      <a:xfrm flipV="1">
                        <a:off x="4351320" y="2655000"/>
                        <a:ext cx="248760" cy="23868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  <a:tailEnd len="med" type="stealth" w="med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241" name=""/>
                    <p:cNvSpPr/>
                    <p:nvPr/>
                  </p:nvSpPr>
                  <p:spPr>
                    <a:xfrm>
                      <a:off x="4652280" y="3933720"/>
                      <a:ext cx="1440" cy="30528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3870000" y="3205440"/>
                      <a:ext cx="2160" cy="30564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3" name=""/>
                  <p:cNvSpPr/>
                  <p:nvPr/>
                </p:nvSpPr>
                <p:spPr>
                  <a:xfrm rot="16271400">
                    <a:off x="3736080" y="1655640"/>
                    <a:ext cx="1607400" cy="34214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5825" y="1240"/>
                        </a:moveTo>
                        <a:arcTo wR="10800" hR="10800" stAng="-3736421" swAng="3831805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5825" y="1240"/>
                        </a:moveTo>
                        <a:arcTo wR="10800" hR="10800" stAng="-3736421" swAng="3831805"/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miter/>
                    <a:tailEnd len="med" type="stealth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" name=""/>
                  <p:cNvSpPr/>
                  <p:nvPr/>
                </p:nvSpPr>
                <p:spPr>
                  <a:xfrm flipH="1" flipV="1" rot="16271400">
                    <a:off x="3921120" y="1674000"/>
                    <a:ext cx="1607400" cy="34214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5825" y="1240"/>
                        </a:moveTo>
                        <a:arcTo wR="10800" hR="10800" stAng="-3736421" swAng="3831805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5825" y="1240"/>
                        </a:moveTo>
                        <a:arcTo wR="10800" hR="10800" stAng="-3736421" swAng="3831805"/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miter/>
                    <a:tailEnd len="med" type="stealth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 flipV="1" rot="5328600">
                    <a:off x="3755160" y="1673280"/>
                    <a:ext cx="1605240" cy="34214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5825" y="1240"/>
                        </a:moveTo>
                        <a:arcTo wR="10800" hR="10800" stAng="-3736421" swAng="3831805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5825" y="1240"/>
                        </a:moveTo>
                        <a:arcTo wR="10800" hR="10800" stAng="-3736421" swAng="3831805"/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miter/>
                    <a:headEnd len="med" type="stealth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154040" y="4271760"/>
                    <a:ext cx="1033200" cy="3538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spcAft>
                        <a:spcPts val="601"/>
                      </a:spcAft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ru-RU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жовте світло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spcAft>
                        <a:spcPts val="601"/>
                      </a:spcAft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ru-RU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в усіх напрямках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"/>
                  <p:cNvSpPr/>
                  <p:nvPr/>
                </p:nvSpPr>
                <p:spPr>
                  <a:xfrm>
                    <a:off x="5238720" y="2867400"/>
                    <a:ext cx="871920" cy="2840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spcAft>
                        <a:spcPts val="601"/>
                      </a:spcAft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ru-RU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зелене в 3 та 4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spcAft>
                        <a:spcPts val="601"/>
                      </a:spcAft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ru-RU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напрямках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8" name=""/>
                  <p:cNvSpPr/>
                  <p:nvPr/>
                </p:nvSpPr>
                <p:spPr>
                  <a:xfrm>
                    <a:off x="3158640" y="2867400"/>
                    <a:ext cx="872640" cy="2840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spcAft>
                        <a:spcPts val="601"/>
                      </a:spcAft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ru-RU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зелене в 1 та 2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spcAft>
                        <a:spcPts val="601"/>
                      </a:spcAft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ru-RU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напрямках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" name=""/>
                  <p:cNvSpPr/>
                  <p:nvPr/>
                </p:nvSpPr>
                <p:spPr>
                  <a:xfrm>
                    <a:off x="4225680" y="2955960"/>
                    <a:ext cx="47520" cy="464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040" bIns="-140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>
                    <a:off x="3016080" y="3364920"/>
                    <a:ext cx="47520" cy="475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960" bIns="-12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251" name=""/>
            <p:cNvSpPr/>
            <p:nvPr/>
          </p:nvSpPr>
          <p:spPr>
            <a:xfrm rot="19267200">
              <a:off x="1939320" y="1730880"/>
              <a:ext cx="1041480" cy="3702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825" y="1240"/>
                  </a:moveTo>
                  <a:arcTo wR="10800" hR="10800" stAng="-3736421" swAng="3831805"/>
                  <a:lnTo>
                    <a:pt x="10800" y="10800"/>
                  </a:lnTo>
                  <a:close/>
                </a:path>
                <a:path fill="none" w="21600" h="21600">
                  <a:moveTo>
                    <a:pt x="15825" y="1240"/>
                  </a:moveTo>
                  <a:arcTo wR="10800" hR="10800" stAng="-3736421" swAng="3831805"/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 flipV="1" rot="19267200">
              <a:off x="6308280" y="1415160"/>
              <a:ext cx="425880" cy="3930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825" y="1240"/>
                  </a:moveTo>
                  <a:arcTo wR="10800" hR="10800" stAng="-3736421" swAng="3831805"/>
                  <a:lnTo>
                    <a:pt x="10800" y="10800"/>
                  </a:lnTo>
                  <a:close/>
                </a:path>
                <a:path fill="none" w="21600" h="21600">
                  <a:moveTo>
                    <a:pt x="15825" y="1240"/>
                  </a:moveTo>
                  <a:arcTo wR="10800" hR="10800" stAng="-3736421" swAng="3831805"/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22880" y="4019760"/>
              <a:ext cx="2703600" cy="1404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416600" y="5052960"/>
              <a:ext cx="241200" cy="255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967400" y="4448520"/>
              <a:ext cx="925560" cy="178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надходженн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8520" y="5052960"/>
              <a:ext cx="244440" cy="253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ru-RU" sz="1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096200" y="4360320"/>
              <a:ext cx="745200" cy="310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переїзд перехрест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8" name=""/>
            <p:cNvGrpSpPr/>
            <p:nvPr/>
          </p:nvGrpSpPr>
          <p:grpSpPr>
            <a:xfrm>
              <a:off x="972000" y="4700880"/>
              <a:ext cx="1935360" cy="317160"/>
              <a:chOff x="972000" y="4700880"/>
              <a:chExt cx="1935360" cy="317160"/>
            </a:xfrm>
          </p:grpSpPr>
          <p:sp>
            <p:nvSpPr>
              <p:cNvPr id="259" name=""/>
              <p:cNvSpPr/>
              <p:nvPr/>
            </p:nvSpPr>
            <p:spPr>
              <a:xfrm flipH="1">
                <a:off x="2297520" y="4819320"/>
                <a:ext cx="34308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flipH="1">
                <a:off x="1805400" y="4749120"/>
                <a:ext cx="248760" cy="2358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2302560" y="4700880"/>
                <a:ext cx="0" cy="303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flipH="1">
                <a:off x="2036880" y="4866840"/>
                <a:ext cx="265680" cy="4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flipH="1">
                <a:off x="1539000" y="4871880"/>
                <a:ext cx="248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flipH="1">
                <a:off x="972000" y="4731120"/>
                <a:ext cx="246240" cy="2358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flipH="1">
                <a:off x="1537920" y="4713480"/>
                <a:ext cx="720" cy="304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flipH="1">
                <a:off x="1218240" y="4871880"/>
                <a:ext cx="284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7" name=""/>
              <p:cNvGrpSpPr/>
              <p:nvPr/>
            </p:nvGrpSpPr>
            <p:grpSpPr>
              <a:xfrm>
                <a:off x="2659320" y="4731120"/>
                <a:ext cx="248040" cy="235800"/>
                <a:chOff x="2659320" y="4731120"/>
                <a:chExt cx="248040" cy="235800"/>
              </a:xfrm>
            </p:grpSpPr>
            <p:sp>
              <p:nvSpPr>
                <p:cNvPr id="268" name=""/>
                <p:cNvSpPr/>
                <p:nvPr/>
              </p:nvSpPr>
              <p:spPr>
                <a:xfrm flipH="1">
                  <a:off x="2658960" y="4731120"/>
                  <a:ext cx="248040" cy="2358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>
                  <a:off x="2775240" y="4828680"/>
                  <a:ext cx="43200" cy="428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0" name=""/>
              <p:cNvSpPr/>
              <p:nvPr/>
            </p:nvSpPr>
            <p:spPr>
              <a:xfrm>
                <a:off x="2333160" y="4926240"/>
                <a:ext cx="34380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1" name=""/>
            <p:cNvSpPr/>
            <p:nvPr/>
          </p:nvSpPr>
          <p:spPr>
            <a:xfrm>
              <a:off x="740880" y="4108320"/>
              <a:ext cx="2633040" cy="195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Підсистема руху автомобілів у 2-ому напрямку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2332800">
              <a:off x="2352600" y="1278720"/>
              <a:ext cx="612720" cy="4088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825" y="1240"/>
                  </a:moveTo>
                  <a:arcTo wR="10800" hR="10800" stAng="-3736421" swAng="3831805"/>
                  <a:lnTo>
                    <a:pt x="10800" y="10800"/>
                  </a:lnTo>
                  <a:close/>
                </a:path>
                <a:path fill="none" w="21600" h="21600">
                  <a:moveTo>
                    <a:pt x="15825" y="1240"/>
                  </a:moveTo>
                  <a:arcTo wR="10800" hR="10800" stAng="-3736421" swAng="3831805"/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902520" y="6090480"/>
              <a:ext cx="7788960" cy="302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684360" y="49428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истема </a:t>
            </a:r>
            <a:r>
              <a:rPr b="0" lang="uk-UA" sz="1600" spc="-1" strike="noStrike">
                <a:solidFill>
                  <a:srgbClr val="000000"/>
                </a:solidFill>
                <a:latin typeface="Times New Roman"/>
              </a:rPr>
              <a:t>керування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запасами товарів торгов</a:t>
            </a:r>
            <a:r>
              <a:rPr b="0" lang="uk-UA" sz="1600" spc="-1" strike="noStrike">
                <a:solidFill>
                  <a:srgbClr val="000000"/>
                </a:solidFill>
                <a:latin typeface="Times New Roman"/>
              </a:rPr>
              <a:t>ого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підприємств</a:t>
            </a:r>
            <a:r>
              <a:rPr b="0" lang="uk-UA" sz="16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1218960" y="1086120"/>
            <a:ext cx="6395400" cy="5271480"/>
            <a:chOff x="1218960" y="1086120"/>
            <a:chExt cx="6395400" cy="5271480"/>
          </a:xfrm>
        </p:grpSpPr>
        <p:sp>
          <p:nvSpPr>
            <p:cNvPr id="276" name=""/>
            <p:cNvSpPr/>
            <p:nvPr/>
          </p:nvSpPr>
          <p:spPr>
            <a:xfrm>
              <a:off x="1218960" y="3581280"/>
              <a:ext cx="6395400" cy="2401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002840" y="4935240"/>
              <a:ext cx="863280" cy="32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недостатній запас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882400" y="4594320"/>
              <a:ext cx="750960" cy="32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достатній запас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186880" y="4253400"/>
              <a:ext cx="720" cy="254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335120" y="4064760"/>
              <a:ext cx="2637000" cy="14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контроль стану запасу закінчивс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327040" y="5743800"/>
              <a:ext cx="3966840" cy="18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808080"/>
                  </a:solidFill>
                  <a:latin typeface="Times New Roman"/>
                </a:rPr>
                <a:t>підсистема прийняття рішення про поповнення запасу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472640" y="4713480"/>
              <a:ext cx="261360" cy="196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flipV="1">
              <a:off x="3116880" y="4801680"/>
              <a:ext cx="1355760" cy="32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134800" y="4443840"/>
              <a:ext cx="1728720" cy="197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поповнення запасу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956120" y="4851720"/>
              <a:ext cx="613440" cy="204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ru-RU" sz="1200" spc="-1" strike="noStrike" baseline="-25000">
                  <a:solidFill>
                    <a:srgbClr val="000000"/>
                  </a:solidFill>
                  <a:latin typeface="Times New Roman"/>
                </a:rPr>
                <a:t>контролю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792320" y="5395680"/>
              <a:ext cx="1005480" cy="307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періодичність контролю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>
              <a:off x="4698000" y="4371480"/>
              <a:ext cx="469800" cy="363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>
              <a:off x="4268520" y="3867480"/>
              <a:ext cx="184680" cy="68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735920" y="1086120"/>
              <a:ext cx="4849920" cy="2437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977560" y="3278520"/>
              <a:ext cx="375480" cy="14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запас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 rot="2037600">
              <a:off x="3768480" y="2301480"/>
              <a:ext cx="570600" cy="1410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6409" y="1571"/>
                  </a:moveTo>
                  <a:arcTo wR="10800" hR="10800" stAng="-3522659" swAng="5356179"/>
                  <a:lnTo>
                    <a:pt x="10800" y="10800"/>
                  </a:lnTo>
                  <a:close/>
                </a:path>
                <a:path fill="none" w="21600" h="21600">
                  <a:moveTo>
                    <a:pt x="16409" y="1571"/>
                  </a:moveTo>
                  <a:arcTo wR="10800" hR="10800" stAng="-3522659" swAng="5356179"/>
                </a:path>
              </a:pathLst>
            </a:custGeom>
            <a:noFill/>
            <a:ln w="9360">
              <a:solidFill>
                <a:srgbClr val="00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203280" y="2461680"/>
              <a:ext cx="695160" cy="237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черг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390840" y="3208320"/>
              <a:ext cx="380880" cy="300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4" name=""/>
            <p:cNvGrpSpPr/>
            <p:nvPr/>
          </p:nvGrpSpPr>
          <p:grpSpPr>
            <a:xfrm>
              <a:off x="1795320" y="2065320"/>
              <a:ext cx="2593440" cy="1132560"/>
              <a:chOff x="1795320" y="2065320"/>
              <a:chExt cx="2593440" cy="1132560"/>
            </a:xfrm>
          </p:grpSpPr>
          <p:sp>
            <p:nvSpPr>
              <p:cNvPr id="295" name=""/>
              <p:cNvSpPr/>
              <p:nvPr/>
            </p:nvSpPr>
            <p:spPr>
              <a:xfrm>
                <a:off x="4367520" y="2222640"/>
                <a:ext cx="0" cy="254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3468240" y="2251800"/>
                <a:ext cx="261720" cy="1969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2901600" y="2234160"/>
                <a:ext cx="0" cy="254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2901600" y="2350440"/>
                <a:ext cx="566280" cy="3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3731040" y="2356560"/>
                <a:ext cx="657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flipH="1" rot="19782600">
                <a:off x="2652120" y="2338560"/>
                <a:ext cx="922680" cy="667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2377" y="116"/>
                    </a:moveTo>
                    <a:arcTo wR="10800" hR="10800" stAng="-4896348" swAng="57801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2377" y="116"/>
                    </a:moveTo>
                    <a:arcTo wR="10800" hR="10800" stAng="-4896348" swAng="5780150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372200">
                <a:off x="2262240" y="2376360"/>
                <a:ext cx="923400" cy="668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1459" y="20"/>
                    </a:moveTo>
                    <a:arcTo wR="10800" hR="10800" stAng="-5190154" swAng="645018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1459" y="20"/>
                    </a:moveTo>
                    <a:arcTo wR="10800" hR="10800" stAng="-5190154" swAng="6450187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02" name=""/>
              <p:cNvGrpSpPr/>
              <p:nvPr/>
            </p:nvGrpSpPr>
            <p:grpSpPr>
              <a:xfrm>
                <a:off x="2793240" y="2828160"/>
                <a:ext cx="261720" cy="196920"/>
                <a:chOff x="2793240" y="2828160"/>
                <a:chExt cx="261720" cy="196920"/>
              </a:xfrm>
            </p:grpSpPr>
            <p:sp>
              <p:nvSpPr>
                <p:cNvPr id="303" name=""/>
                <p:cNvSpPr/>
                <p:nvPr/>
              </p:nvSpPr>
              <p:spPr>
                <a:xfrm>
                  <a:off x="2793240" y="2828160"/>
                  <a:ext cx="261720" cy="1969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2887200" y="2909520"/>
                  <a:ext cx="45360" cy="35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5" name=""/>
              <p:cNvSpPr/>
              <p:nvPr/>
            </p:nvSpPr>
            <p:spPr>
              <a:xfrm>
                <a:off x="1795320" y="2065320"/>
                <a:ext cx="945000" cy="4255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0800" bIns="10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200" spc="-1" strike="noStrike">
                    <a:solidFill>
                      <a:srgbClr val="000000"/>
                    </a:solidFill>
                    <a:latin typeface="Times New Roman"/>
                  </a:rPr>
                  <a:t>надійшов покупець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6" name=""/>
            <p:cNvSpPr/>
            <p:nvPr/>
          </p:nvSpPr>
          <p:spPr>
            <a:xfrm>
              <a:off x="3879720" y="1931040"/>
              <a:ext cx="973080" cy="30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покупк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товару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852800" y="1470240"/>
              <a:ext cx="260280" cy="197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311720" y="1476000"/>
              <a:ext cx="0" cy="254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 flipV="1">
              <a:off x="3635280" y="1632960"/>
              <a:ext cx="657720" cy="618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5214960" y="1348200"/>
              <a:ext cx="1033200" cy="436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кількість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невдоволеного попиту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309920" y="1568880"/>
              <a:ext cx="53568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689200" y="1965960"/>
              <a:ext cx="464400" cy="21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ru-RU" sz="1200" spc="-1" strike="noStrike" baseline="-25000">
                  <a:solidFill>
                    <a:srgbClr val="000000"/>
                  </a:solidFill>
                  <a:latin typeface="Times New Roman"/>
                </a:rPr>
                <a:t>надх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02160" y="1149840"/>
              <a:ext cx="2017080" cy="344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808080"/>
                  </a:solidFill>
                  <a:latin typeface="Times New Roman"/>
                </a:rPr>
                <a:t>підсистема обслуговування покупці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393280" y="3913560"/>
              <a:ext cx="1051200" cy="230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N-М(запас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914640" y="1190880"/>
              <a:ext cx="761040" cy="291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товар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відсутні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344960" y="6152040"/>
              <a:ext cx="6203160" cy="205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137400" y="3495960"/>
              <a:ext cx="338400" cy="1217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231720" y="4163760"/>
              <a:ext cx="94320" cy="101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 flipV="1">
              <a:off x="5262480" y="4861800"/>
              <a:ext cx="487800" cy="393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225040" y="4371480"/>
              <a:ext cx="469800" cy="363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243760" y="5114160"/>
              <a:ext cx="720" cy="253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4698000" y="4876560"/>
              <a:ext cx="526680" cy="363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 flipH="1" flipV="1">
              <a:off x="3664080" y="3481200"/>
              <a:ext cx="1504080" cy="8604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919040" y="2257200"/>
              <a:ext cx="260280" cy="198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199480" y="2140920"/>
              <a:ext cx="964080" cy="436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кількість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вдоволеного попиту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387320" y="2356560"/>
              <a:ext cx="5360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843640" y="4951080"/>
              <a:ext cx="612360" cy="204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ru-RU" sz="1200" spc="-1" strike="noStrike" baseline="-25000">
                  <a:solidFill>
                    <a:srgbClr val="000000"/>
                  </a:solidFill>
                  <a:latin typeface="Times New Roman"/>
                </a:rPr>
                <a:t>доставк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68320" y="3744360"/>
              <a:ext cx="229680" cy="221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9" name=""/>
            <p:cNvGrpSpPr/>
            <p:nvPr/>
          </p:nvGrpSpPr>
          <p:grpSpPr>
            <a:xfrm>
              <a:off x="2393280" y="4671000"/>
              <a:ext cx="739440" cy="253080"/>
              <a:chOff x="2393280" y="4671000"/>
              <a:chExt cx="739440" cy="253080"/>
            </a:xfrm>
          </p:grpSpPr>
          <p:sp>
            <p:nvSpPr>
              <p:cNvPr id="330" name=""/>
              <p:cNvSpPr/>
              <p:nvPr/>
            </p:nvSpPr>
            <p:spPr>
              <a:xfrm>
                <a:off x="3132000" y="4671000"/>
                <a:ext cx="720" cy="253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31" name=""/>
              <p:cNvGrpSpPr/>
              <p:nvPr/>
            </p:nvGrpSpPr>
            <p:grpSpPr>
              <a:xfrm>
                <a:off x="2393280" y="4699800"/>
                <a:ext cx="262440" cy="196920"/>
                <a:chOff x="2393280" y="4699800"/>
                <a:chExt cx="262440" cy="196920"/>
              </a:xfrm>
            </p:grpSpPr>
            <p:sp>
              <p:nvSpPr>
                <p:cNvPr id="332" name=""/>
                <p:cNvSpPr/>
                <p:nvPr/>
              </p:nvSpPr>
              <p:spPr>
                <a:xfrm>
                  <a:off x="2393280" y="4699800"/>
                  <a:ext cx="262440" cy="1969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2487600" y="4781160"/>
                  <a:ext cx="45720" cy="35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4" name=""/>
              <p:cNvSpPr/>
              <p:nvPr/>
            </p:nvSpPr>
            <p:spPr>
              <a:xfrm flipV="1">
                <a:off x="2674440" y="4752000"/>
                <a:ext cx="442800" cy="11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 flipV="1">
                <a:off x="2666520" y="4845600"/>
                <a:ext cx="441720" cy="10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6" name=""/>
            <p:cNvGrpSpPr/>
            <p:nvPr/>
          </p:nvGrpSpPr>
          <p:grpSpPr>
            <a:xfrm>
              <a:off x="5680440" y="4695120"/>
              <a:ext cx="263160" cy="198360"/>
              <a:chOff x="5680440" y="4695120"/>
              <a:chExt cx="263160" cy="198360"/>
            </a:xfrm>
          </p:grpSpPr>
          <p:sp>
            <p:nvSpPr>
              <p:cNvPr id="337" name=""/>
              <p:cNvSpPr/>
              <p:nvPr/>
            </p:nvSpPr>
            <p:spPr>
              <a:xfrm>
                <a:off x="5680440" y="4695120"/>
                <a:ext cx="263160" cy="198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5774760" y="4777200"/>
                <a:ext cx="45720" cy="36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1T15:25:34Z</dcterms:created>
  <dc:creator>Инна</dc:creator>
  <dc:description/>
  <dc:language>en-US</dc:language>
  <cp:lastModifiedBy>Юра</cp:lastModifiedBy>
  <dcterms:modified xsi:type="dcterms:W3CDTF">2009-09-16T13:45:44Z</dcterms:modified>
  <cp:revision>66</cp:revision>
  <dc:subject/>
  <dc:title>ІНФОРМАЦІЙНА ТЕХНОЛОГІЯ ВИЗНАЧЕННЯ ОПТИМАЛЬНИХ ПАРАМЕТРІВ УПРАВЛІННЯ ТРАНСПОРТНИМ РУХОМ ЧЕРЕЗ СВТЛОФОРНІ ОБ’ЄКТИ МІСТА</dc:title>
</cp:coreProperties>
</file>